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ct" ContentType="image/x-pict"/>
  <Override PartName="/ppt/media/image11.pct" ContentType="image/x-pict"/>
  <Override PartName="/ppt/media/image9.png" ContentType="image/png"/>
  <Override PartName="/ppt/media/image6.gif" ContentType="image/gif"/>
  <Override PartName="/ppt/media/image22.pct" ContentType="image/x-pict"/>
  <Override PartName="/ppt/media/image8.png" ContentType="image/png"/>
  <Override PartName="/ppt/media/image21.pct" ContentType="image/x-pict"/>
  <Override PartName="/ppt/media/image7.pct" ContentType="image/x-pict"/>
  <Override PartName="/ppt/media/image12.png" ContentType="image/png"/>
  <Override PartName="/ppt/media/image20.jpeg" ContentType="image/jpeg"/>
  <Override PartName="/ppt/media/image3.gif" ContentType="image/gif"/>
  <Override PartName="/ppt/media/image17.pct" ContentType="image/x-pict"/>
  <Override PartName="/ppt/media/image10.png" ContentType="image/png"/>
  <Override PartName="/ppt/media/image5.png" ContentType="image/png"/>
  <Override PartName="/ppt/media/image25.gif" ContentType="image/gif"/>
  <Override PartName="/ppt/media/image26.pct" ContentType="image/x-pict"/>
  <Override PartName="/ppt/media/image24.png" ContentType="image/png"/>
  <Override PartName="/ppt/media/image23.jpeg" ContentType="image/jpeg"/>
  <Override PartName="/ppt/media/image28.pct" ContentType="image/x-pict"/>
  <Override PartName="/ppt/media/image19.png" ContentType="image/png"/>
  <Override PartName="/ppt/media/image18.png" ContentType="image/png"/>
  <Override PartName="/ppt/media/image15.jpeg" ContentType="image/jpeg"/>
  <Override PartName="/ppt/media/image14.gif" ContentType="image/gif"/>
  <Override PartName="/ppt/media/image16.jpeg" ContentType="image/jpeg"/>
  <Override PartName="/ppt/media/image1.pct" ContentType="image/x-pict"/>
  <Override PartName="/ppt/media/image4.png" ContentType="image/png"/>
  <Override PartName="/ppt/media/image27.png" ContentType="image/png"/>
  <Override PartName="/ppt/media/image2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86C7-AC23-47DC-B5F1-EB60CD6F6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4C4C-EEAF-45EE-BACF-787A4DAE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6F56-34B2-4AF7-ABB5-F54D6971F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F33A-28EA-494A-9C7C-7109D5513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413C-BF29-4FB0-A105-E10C2EB8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B69B-1A43-4F83-A0C5-86FCF080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9438-B8FD-4299-B7FC-D5BB7C4A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6642-1631-4E24-9C1A-3EB85D72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EDC6-F42C-4081-9E7D-8969E163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E6FA-D13B-4B99-8711-C0FF894F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3BE2-8726-4D02-ABD4-6586765A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6E51-F05B-4D26-9942-9D4C6DE8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5161-2773-4986-AC7B-9D657AACF0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ct"/><Relationship Id="rId3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ct"/><Relationship Id="rId3" Type="http://schemas.openxmlformats.org/officeDocument/2006/relationships/image" Target="../media/image10.png"/><Relationship Id="rId4" Type="http://schemas.openxmlformats.org/officeDocument/2006/relationships/image" Target="../media/image11.pct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ct"/><Relationship Id="rId3" Type="http://schemas.openxmlformats.org/officeDocument/2006/relationships/image" Target="../media/image14.gif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ct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ct"/><Relationship Id="rId4" Type="http://schemas.openxmlformats.org/officeDocument/2006/relationships/image" Target="../media/image22.pct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image" Target="../media/image26.pct"/><Relationship Id="rId5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Marker Felt"/>
              </a:rPr>
              <a:t>Les Étoiles Filantes</a:t>
            </a: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arker Felt"/>
              </a:rPr>
              <a:t>Les Cowboys Fringa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5120" y="480060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Marker Felt"/>
              </a:rPr>
              <a:t>Mariama Oh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076640" y="3122640"/>
            <a:ext cx="988920" cy="611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42894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0492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3ebf1"/>
                </a:solidFill>
                <a:latin typeface="Marker Felt"/>
              </a:rPr>
              <a:t>…</a:t>
            </a:r>
            <a:r>
              <a:rPr b="1" lang="en-US" sz="4800" spc="-1" strike="noStrike">
                <a:solidFill>
                  <a:srgbClr val="e3ebf1"/>
                </a:solidFill>
                <a:latin typeface="Marker Felt"/>
              </a:rPr>
              <a:t>comme une étoile filante…</a:t>
            </a: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24308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500"/>
                </a:solidFill>
                <a:latin typeface="Marker Felt"/>
              </a:rPr>
              <a:t>Si la vie était de donner heureux, les mémoires ne partiraient pa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0e500"/>
                </a:solidFill>
                <a:latin typeface="Marker Felt"/>
              </a:rPr>
              <a:t>Si la vie arrêter dans un instant, c'est les mémoires que vous avez</a:t>
            </a:r>
            <a:r>
              <a:rPr b="0" lang="fr-FR" sz="2400" spc="-1" strike="noStrike">
                <a:solidFill>
                  <a:srgbClr val="f0e500"/>
                </a:solidFill>
                <a:latin typeface="Marker Felt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307120" y="-76320"/>
            <a:ext cx="3836880" cy="346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343400" y="2514600"/>
            <a:ext cx="3276720" cy="4343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" y="838080"/>
            <a:ext cx="7391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ebf1"/>
                </a:solidFill>
                <a:latin typeface="Marker Felt"/>
              </a:rPr>
              <a:t>Les mémoires de quel était, comment les passes d'amour par dans le brouillar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8a4b"/>
                </a:solidFill>
                <a:latin typeface="Marker Felt"/>
              </a:rPr>
              <a:t>“</a:t>
            </a:r>
            <a:r>
              <a:rPr b="1" lang="en-US" sz="4400" spc="-1" strike="noStrike">
                <a:solidFill>
                  <a:srgbClr val="468a4b"/>
                </a:solidFill>
                <a:latin typeface="Marker Felt"/>
              </a:rPr>
              <a:t>C’pas mieux que r’garder en arrière”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57200" y="1600200"/>
            <a:ext cx="8229600" cy="4525920"/>
            <a:chOff x="457200" y="1600200"/>
            <a:chExt cx="8229600" cy="452592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822960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 txBox="1"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295280" y="457200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5181480"/>
            <a:ext cx="65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arker Felt"/>
              </a:rPr>
              <a:t>Carre St-Louis, est paisible et heureux.  Les endroits sont durs a partir derrièr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178680" y="1066680"/>
            <a:ext cx="205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266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500"/>
                </a:solidFill>
                <a:latin typeface="Marker Felt"/>
              </a:rPr>
              <a:t>Il est bonne que les personnes apaise les coeurs en peine…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781680" y="457200"/>
            <a:ext cx="1943280" cy="1965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666880" y="259092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Marker Felt"/>
              </a:rPr>
              <a:t>Les mémoires palîront, et c'est les étoiles filantes qui resteront.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28760" cy="3591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9480" y="106668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7429680" cy="4857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876920" y="2743200"/>
            <a:ext cx="2590560" cy="1601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934320" y="0"/>
            <a:ext cx="2209680" cy="1933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514600" y="5486400"/>
            <a:ext cx="609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571500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500"/>
                </a:solidFill>
                <a:latin typeface="Marker Felt"/>
              </a:rPr>
              <a:t>Il se peut la vie á les Québecoise est difficile et compliqué.  Les étoiles filantes restero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380880"/>
            <a:ext cx="4191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arker Felt"/>
              </a:rPr>
              <a:t>Semble-t-il que “les idéaux qui se cassent” sont oublié dans le Québec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6248520" y="0"/>
            <a:ext cx="1703160" cy="3086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5029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80880" y="4724280"/>
            <a:ext cx="2584440" cy="1765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257800" y="990720"/>
            <a:ext cx="3716280" cy="5867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4572000" y="5029200"/>
            <a:ext cx="2362320" cy="1573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105520" y="380880"/>
            <a:ext cx="3733560" cy="36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arker Felt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Marker Felt"/>
              </a:rPr>
              <a:t>Si je m’arrête un instant pour te parler de la vie…et ces </a:t>
            </a:r>
            <a:r>
              <a:rPr b="1" lang="en-US" sz="4400" spc="-1" strike="noStrike">
                <a:solidFill>
                  <a:srgbClr val="ffffff"/>
                </a:solidFill>
                <a:latin typeface="Marker Felt"/>
              </a:rPr>
              <a:t>hivers </a:t>
            </a:r>
            <a:r>
              <a:rPr b="1" lang="en-US" sz="3200" spc="-1" strike="noStrike">
                <a:solidFill>
                  <a:srgbClr val="ffffff"/>
                </a:solidFill>
                <a:latin typeface="Marker Felt"/>
              </a:rPr>
              <a:t>enneigés á construire des igloos…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Marker Felt"/>
              </a:rPr>
              <a:t>Espererz-vous que l’bon temps partiront parce que des coeurs changements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419720" y="2514240"/>
            <a:ext cx="220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ccff"/>
                </a:solidFill>
                <a:latin typeface="Marker Felt"/>
              </a:rPr>
              <a:t>La vie, l'amour, le heureux, les mémoires, rester, le moment, la réalité..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447920" y="2362320"/>
            <a:ext cx="2666880" cy="18572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705720" y="2057400"/>
            <a:ext cx="228600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0e500"/>
                </a:solidFill>
                <a:latin typeface="Marker Felt"/>
              </a:rPr>
              <a:t>Les étoiles filantes…</a:t>
            </a:r>
            <a:endParaRPr b="0" lang="en-US" sz="6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952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arker Felt"/>
              </a:rPr>
              <a:t>Bien que la vie est difficile, le bonheur avant le mort est trés bonne pour vo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095880" y="3276720"/>
            <a:ext cx="3048120" cy="2385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38080" y="3581280"/>
            <a:ext cx="4267440" cy="2843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934320" y="3132000"/>
            <a:ext cx="1674720" cy="1820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4495680" y="1523880"/>
            <a:ext cx="3787920" cy="346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839440" cy="65469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52280" y="380880"/>
            <a:ext cx="2057400" cy="9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arker Felt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Marker Felt"/>
              </a:rPr>
              <a:t>La vie s’accroche et renaît comme les printemps reviennent dans une bouffée d’air frais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arker Felt"/>
              </a:rPr>
              <a:t>qui apaise les couers en pein…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434280" y="2895480"/>
            <a:ext cx="2404800" cy="3629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029200" y="-152280"/>
            <a:ext cx="2895480" cy="2549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352680" y="4724280"/>
            <a:ext cx="1830600" cy="1130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23:01:27Z</dcterms:created>
  <dc:creator>CSUEXT</dc:creator>
  <dc:description/>
  <dc:language>en-US</dc:language>
  <cp:lastModifiedBy>Toni Theisen</cp:lastModifiedBy>
  <dcterms:modified xsi:type="dcterms:W3CDTF">2007-01-17T16:02:42Z</dcterms:modified>
  <cp:revision>20</cp:revision>
  <dc:subject/>
  <dc:title>Les Étoiles Filantes</dc:title>
</cp:coreProperties>
</file>